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5DC30-89F7-441D-A661-B0F875941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A4F2E-3C33-429A-A3B0-CD6C04F3E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7EDB6-0C1C-4D1A-B43A-EE4C9B23F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39872-AB89-45C3-876E-F73A05C67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DFC14-5D3C-4853-ACBC-4A5D86E3B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C5DF7-EF72-4A05-B4FD-B385E7F29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FC73A-A9A5-431F-85DC-062C1B1D2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6420D-6EFA-4FC1-A90D-E3DC0FE0F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9272D-A88D-4E35-94CA-7F5E6F722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32A57-3546-4772-9405-59FA81553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5FF5E-1D2F-4D56-A292-E15065EC0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2F6D8-A393-478B-A3BD-EB5EF7E1F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5E2F4-C973-4FD3-A41F-6EA836E6CD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iversal IDE Genera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Laff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-152280" y="1295280"/>
            <a:ext cx="7162560" cy="2819520"/>
          </a:xfrm>
          <a:prstGeom prst="ellipse">
            <a:avLst/>
          </a:prstGeom>
          <a:solidFill>
            <a:srgbClr val="ffffcc">
              <a:alpha val="57000"/>
            </a:srgbClr>
          </a:solidFill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4920" y="2438280"/>
            <a:ext cx="1218960" cy="838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pg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mm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B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371600" y="156852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cked l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523880" y="28638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523880" y="32004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362320" y="3092400"/>
            <a:ext cx="1218960" cy="838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438280" y="2558880"/>
            <a:ext cx="76212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057400" y="18730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200400" y="27874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720800"/>
            <a:ext cx="114300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n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962520" y="2178000"/>
            <a:ext cx="114300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62520" y="2635200"/>
            <a:ext cx="114300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962520" y="3092400"/>
            <a:ext cx="114300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il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62520" y="3549600"/>
            <a:ext cx="114300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40660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638680" y="2101680"/>
            <a:ext cx="76212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809880" y="2558880"/>
            <a:ext cx="1524240" cy="221004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886200" y="415908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lete Eclipse 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172200" y="2558880"/>
            <a:ext cx="1522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019920" y="3016080"/>
            <a:ext cx="2057400" cy="990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ML with abs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rtual Mach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ru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iversal IDE Genera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58000" y="40384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019920" y="4724280"/>
            <a:ext cx="2057400" cy="990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ML with concr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rtual Mach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ru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58000" y="411480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SL transfor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858000" y="57150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5486400" y="61722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114800" y="5715000"/>
            <a:ext cx="1371600" cy="609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nar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ru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791320" y="35812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5486040" y="60199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791320" y="3581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04920" y="4267080"/>
            <a:ext cx="3200400" cy="2210040"/>
          </a:xfrm>
          <a:prstGeom prst="rect">
            <a:avLst/>
          </a:prstGeom>
          <a:solidFill>
            <a:srgbClr val="ff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3352320" y="60958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209680" y="5715000"/>
            <a:ext cx="1143000" cy="53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pr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209680" y="5029200"/>
            <a:ext cx="1143000" cy="53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pr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209680" y="4343400"/>
            <a:ext cx="1143000" cy="53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pr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33520" y="4419720"/>
            <a:ext cx="60948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33520" y="4876920"/>
            <a:ext cx="60948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33520" y="5334120"/>
            <a:ext cx="83808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bu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33520" y="5791320"/>
            <a:ext cx="83808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295280" y="4800600"/>
            <a:ext cx="6098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57200" y="38862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238880" y="266688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embler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114800" y="5029200"/>
            <a:ext cx="1295280" cy="53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a-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3504960" y="53341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334120" y="1219320"/>
            <a:ext cx="28954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rking Sept 14, 200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st try: PH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33520" y="647712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ing worked for PH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486400" y="2286000"/>
            <a:ext cx="3429000" cy="380988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76720" y="4724280"/>
            <a:ext cx="3429000" cy="21337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858000" y="617220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B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4T20:22:52Z</dcterms:created>
  <dc:creator>Chris Laffra</dc:creator>
  <dc:description/>
  <dc:language>en-US</dc:language>
  <cp:lastModifiedBy>Chris Laffra</cp:lastModifiedBy>
  <dcterms:modified xsi:type="dcterms:W3CDTF">2004-10-05T14:16:18Z</dcterms:modified>
  <cp:revision>1</cp:revision>
  <dc:subject/>
  <dc:title>Universal IDE Generator</dc:title>
</cp:coreProperties>
</file>